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chimes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bomb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F21E-0FAB-4BCE-8D99-6DAFD140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BA055-2909-46F8-9F7B-7FD222E0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43302-A8EF-4CFD-94B4-4525A6BA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5E525-4C4F-4F71-BDCF-B5AC0E02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1159-0EAB-48CA-BE9A-097FC312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5415-4C2D-44A2-8959-AAFCBE52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DBA2-A53B-4913-BC59-60686596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36ED-EF26-4EA5-B0BF-E5DA9668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84E6-8E86-4F68-A215-FCA48EF0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56CF-5AFB-4E7A-9DDD-29AE71C3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190F-FFAE-42F1-8F76-0EE24595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1B544-6AEB-4FB4-8A0B-EBAFBE07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F0FC-E75F-47AA-9A04-E460709A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DC74-17A5-4BFE-AEB5-CB0A0BA1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E2B4-910D-4B81-B4E4-C2CE92F8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DE51-3690-4C3E-ABFA-BC5624A3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64D6-3B48-472E-838C-7E5DF49D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4D25-09A6-4CE9-B0CF-DA16DCF1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AB55-A1B6-48D7-A35F-4E06A67D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34F66-5E28-4444-AE8A-548375EB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56606-7D37-41C0-8DE2-F9B08765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2FAA3-1CD7-4CD1-96E0-06501B3A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D215-BCDD-4DCE-87BD-DE5B124E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C448-1E3F-48A4-B968-44355EBB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36B5-D3E7-4AFD-8DD9-42E30DC067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ED94-36B1-48E8-81E8-61C9FFF6210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41B5-FCED-4D06-B9E5-B39AE88AFD3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8EAF-5BC5-43E0-A2C6-EDD6182F65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FBB8-3086-4E04-988F-BCAC89101C2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ВИКТОРИ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ЖЁНОГО БОГ БЕРЕЖЁ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пожарная безопас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От чего люди гибнут на пожар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От дыма, огня, ядовитых газов, потери созн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4740"/>
                </a:solidFill>
                <a:latin typeface="Tahoma"/>
              </a:rPr>
              <a:t>ЗАГАД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Шипит и злится, воды боится. С языком, а не лает, без зубов, а куса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ahoma"/>
              </a:rPr>
              <a:t>(Ого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Накормишь - живет. Напоишь - умр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ahoma"/>
              </a:rPr>
              <a:t>(Пожар, ого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4740"/>
                </a:solidFill>
                <a:latin typeface="Tahoma"/>
              </a:rPr>
              <a:t>ЗАГАД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В деревянном домике проживают гномики, уж такие добряки раздают всем огонь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ahoma"/>
              </a:rPr>
              <a:t>(Спич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Голова огнем пылает. Тело тает и сгорает. Я полезной быть хочу. Лампы нет я посвеч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ahoma"/>
              </a:rPr>
              <a:t>(Свеча)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вас загорелся телевизор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бесточу, накрою влажным одеялом. Нельзя поливать вод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ковороде горит масло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тключу плиту. Закрою крышкой или влажным полотенце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ставить сковороду под в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вас горит одежда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Упаду, буду кататься по пол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акрою себя одея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убег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 видите человека в горящей одежде. Что нужно делать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Повалю на пол, накрою курткой, одея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тушить из огнетуши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e500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Отгадай ключевое слово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Если по горизонтали впишете правильные ответы, то в выделенном вертикальном столбце прочтёте ключевое сло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Вопросы по горизон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Из-за неосторожного обращения с ним может возникнуть пож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Опасный бытовой приб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Травма, которую может получить человек при небрежном обращении с огнё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Длинное вспомогательное средство с поперечными перекладинами, используемое спасателями для эвакуации людей из высотных зда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Первичное средство пожаротуш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376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push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твет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23880" y="2224080"/>
          <a:ext cx="6905880" cy="363384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1640"/>
                <a:gridCol w="430200"/>
                <a:gridCol w="432000"/>
                <a:gridCol w="431640"/>
                <a:gridCol w="431640"/>
                <a:gridCol w="432000"/>
                <a:gridCol w="431640"/>
                <a:gridCol w="432000"/>
                <a:gridCol w="431640"/>
                <a:gridCol w="430200"/>
                <a:gridCol w="432000"/>
                <a:gridCol w="431640"/>
                <a:gridCol w="432000"/>
              </a:tblGrid>
              <a:tr h="727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к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ё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р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ю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257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ж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6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ц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а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7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ш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ь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  <p:sndAc>
      <p:stSnd>
        <p:snd r:embed="rId1" name="pu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206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то такое эвакуац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Это экстренный выход из опасной зоны при Ч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e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Tahoma"/>
              </a:rPr>
              <a:t>Обеспечьте пожарную безопасность квартир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айдите в течение 2-х минут нарушения ПБ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428840" y="2143080"/>
            <a:ext cx="6572160" cy="4278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push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206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то содержится в пожарном ящ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топор, лопата, огнетушитель, багор, и ящик с пес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u"/>
    <p:sndAc>
      <p:stSnd>
        <p:snd r:embed="rId1" name="chimes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В каком виде необходимо содержать электроприборы и электрическое оборуд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следует убирать их в шкаф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следует хранить в короб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ледует содержать в исправном ви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содержать в рабочем состоянии выключатели, вилки, розетки, электроснаб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В каком виде необходимо содержать электроприборы и электрическое оборуд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ледует содержать в исправном ви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содержать в рабочем состоянии выключатели, вилки, розетки, электроснаб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рекомендуется преодолевать горящее помещение при выходе из н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А) бег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ползк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накрывшись с головой мокрым одеялом, плотной тканью или верхней одежд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дышать через увлажнённую тка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Как рекомендуется преодолевать горящее помещение при выходе из н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накрывшись с головой мокрым одеялом, плотной тканью или верхней одежд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нужно продвигаться через сильно задымлённое помещ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 полный рост и бег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в полный рост медлен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качк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ползком или пригнувшись, придерживаясь за ст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нужно продвигаться через сильно задымлённое помещ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ползком или пригнувшись, придерживаясь за ст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Что необходимо предпринять человеку, чтобы не потерять ориентировку в сильно задымлённом помещ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держать равновес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придерживаться палкой потол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придерживаться сте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опираться на пол ру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Что необходимо предпринять человеку, чтобы не потерять ориентировку в сильно задымлённом помещ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придерживаться сте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17AE-15BE-4F11-817F-335ABEB7B8F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дьте всегда бдительн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блюдайте треб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НОЙ БЕЗОПАСНОСТ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030a0"/>
                </a:solidFill>
                <a:latin typeface="Tahoma"/>
              </a:rPr>
              <a:t>Нарушения пожарной безопасности в квартире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Лампа накрыта ткан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Розетка на стене перегруж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Утюг включё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Электрокабель под коври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Занавеска находится слишком близко от пли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Полка висит над пли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Полотенце висит над пли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Почему номер пожарной службы «01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Легко запомнить, короткий номер, логично набрать даже в темноте</a:t>
            </a:r>
            <a:r>
              <a:rPr b="1" lang="en-US" sz="3200" spc="-1" strike="noStrike">
                <a:solidFill>
                  <a:srgbClr val="ebf25a"/>
                </a:solidFill>
                <a:latin typeface="Script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Что нужно сделать, когда уходишь из квартиры, чтобы не допустить пожар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Выключить  свет, отключить электроприб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Можно ли бить оконные стекла в очаге возгоран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Нельзя, так как поступающий воздух усиливает го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Что нужно делать, если огонь отрезал путь к выходу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Уйти в дальнюю комнату, плотно закрыть дверь, через окно или балконную дверь кричать о помощи. Прохожие вызовут «01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азовите три любые причины пожа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ahoma"/>
              </a:rPr>
              <a:t>Непотушенная сигарета, игра со спичками, неотключённая электроплита</a:t>
            </a:r>
            <a:r>
              <a:rPr b="1" lang="ru-RU" sz="32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азовите три любые причины пожа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ahoma"/>
              </a:rPr>
              <a:t>Непотушенная сигарета, игра со спичками, неотключенная электроплита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2:03:02Z</dcterms:created>
  <dc:creator/>
  <dc:description/>
  <dc:language>en-US</dc:language>
  <cp:lastModifiedBy>Comp</cp:lastModifiedBy>
  <dcterms:modified xsi:type="dcterms:W3CDTF">2014-09-02T16:41:10Z</dcterms:modified>
  <cp:revision>46</cp:revision>
  <dc:subject/>
  <dc:title>ВИКТОРИНА</dc:title>
</cp:coreProperties>
</file>